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329-E710-423D-A258-BE60761F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770-60F5-4FEF-8771-44771BC0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952-F72A-47F6-93F5-83D54402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3D2-AAC7-42FC-A34A-B3594F6C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B43-5866-40D5-ADB3-130BA4F1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1EB-8C4D-441B-A255-AE1B57C0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48F-23DB-40C5-B5D7-DF54AA58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8EA-2F55-47DE-9D3D-ACD30078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E5B-176B-423D-B6A3-FD7379D6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458-144B-416E-9570-F9331FE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7DE-A44A-4792-B030-2A69753B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7E9-E1DF-427E-ABA7-989F5B1B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07C0-9FF2-4DEA-AEBF-D1E405158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 is a cube root of 8 becaus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8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general, for an integer </a:t>
            </a: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n greater than 1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if 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 = a, then b is an </a:t>
            </a:r>
            <a:r>
              <a:rPr b="1" i="1" lang="en-US" sz="3000" spc="-1" strike="noStrike" u="sng">
                <a:solidFill>
                  <a:srgbClr val="ff0000"/>
                </a:solidFill>
                <a:uFillTx/>
                <a:latin typeface="Comic Sans MS"/>
              </a:rPr>
              <a:t>nth root of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54100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th root of a is written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ere n is t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ndex of a radical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2"/>
              <p:cNvSpPr txBox="1"/>
              <p:nvPr/>
            </p:nvSpPr>
            <p:spPr>
              <a:xfrm>
                <a:off x="2819520" y="5943600"/>
                <a:ext cx="11127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EQUATUIONS USING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nth ROO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4428360" y="7391520"/>
            <a:ext cx="2084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W: p. 4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-81x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-21600" y="2557080"/>
            <a:ext cx="3485160" cy="47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6. 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= 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7. 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8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CAN WRITE AN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nth ROOT OF a AS A POWER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915840" y="1981080"/>
                <a:ext cx="487548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838080" y="4419720"/>
                <a:ext cx="49532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685800" y="6504120"/>
                <a:ext cx="4952880" cy="19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18288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cause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a number whose square i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a, you can wr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685800" y="3505320"/>
                <a:ext cx="487512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219320"/>
          <a:ext cx="6858000" cy="525780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399960">
                <a:tc>
                  <a:txBody>
                    <a:bodyPr lIns="43920" rIns="43920" tIns="0" bIns="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AL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ROOTS OF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784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t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be an integer (n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) and let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be a real number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N IS AN EVEN INTEGER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</a:t>
                      </a:r>
                      <a:r>
                        <a:rPr b="1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n IS AN ODD INTEGER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0 No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s                    a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0 One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                                                    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= 0 One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: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= 0 One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0 Two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s: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0 One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s: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4572000" y="2743200"/>
                <a:ext cx="178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838080" y="3657600"/>
                <a:ext cx="1582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4419720" y="3581280"/>
                <a:ext cx="1898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304920" y="4876920"/>
                <a:ext cx="249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4114800" y="4876920"/>
                <a:ext cx="2095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Box 9"/>
          <p:cNvSpPr/>
          <p:nvPr/>
        </p:nvSpPr>
        <p:spPr>
          <a:xfrm>
            <a:off x="463680" y="6094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. 4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11040" y="68580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4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57200" y="2209680"/>
            <a:ext cx="468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, a = -2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4, a = 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4, a = 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21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ATIONAL EXPONENT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. 4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rcRect l="8593" t="28125" r="11719" b="14582"/>
          <a:stretch/>
        </p:blipFill>
        <p:spPr>
          <a:xfrm>
            <a:off x="0" y="2971800"/>
            <a:ext cx="6858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838080" y="2209680"/>
            <a:ext cx="4305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5/2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6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-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PPROXIMATE ROOTS WITH CALCUL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838080" y="2209680"/>
            <a:ext cx="430560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3. 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4. 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5/2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5.  6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-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405#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the price of an item increases fro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ver a period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the annual rate of infl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xpressed as a decimal) can be model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40 the average value of a home was $2900. In 1990 the average value of a home was $79,100. What was the rate of inflation for a ho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600200" y="48769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8:16:08Z</dcterms:created>
  <dc:creator>sraja</dc:creator>
  <dc:description/>
  <dc:language>en-US</dc:language>
  <cp:lastModifiedBy>sraja</cp:lastModifiedBy>
  <dcterms:modified xsi:type="dcterms:W3CDTF">2011-03-14T17:04:13Z</dcterms:modified>
  <cp:revision>39</cp:revision>
  <dc:subject/>
  <dc:title>VOCABULARY</dc:title>
</cp:coreProperties>
</file>